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85FDCA-46BB-4578-AEBB-E075F9838D3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287880" y="515880"/>
            <a:ext cx="3446280" cy="2584440"/>
          </a:xfrm>
          <a:prstGeom prst="rect">
            <a:avLst/>
          </a:prstGeom>
          <a:ln w="0">
            <a:noFill/>
          </a:ln>
        </p:spPr>
      </p:sp>
      <p:sp>
        <p:nvSpPr>
          <p:cNvPr id="685"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CE93B1-8ABF-46E9-8D6E-568C60FE41C4}"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A2B45E-2925-4AA1-A8CA-F42416EAFE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989260B3-4F20-4676-B997-66112092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09D43B-1522-4436-951E-062424B79D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881CF4-ED61-424F-A675-A88120199E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1E94E6-F669-4142-A15A-2DF3CBC930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58BF45A-3F32-4D48-8209-39989116AF8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68B6DC-8184-44D2-AE66-3DF3D084B8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AB2A3E-CD52-4E91-A403-6937879D0C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15AB22-A574-4CD5-BFE1-912883265F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8F13FEA-3B70-4470-BC21-C9FA3943253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F07BA92-FDB9-48D1-A650-49EEADB40F4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A921095-E9A5-4418-BC02-D3FFA105FD9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FB67F99B-7107-4102-979A-47BFED76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00AA306-D4BF-4F49-A833-E54DAD5E7C7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2388AE-F76E-4E03-8BD4-27C0BADEA7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233BF3-B93D-421E-BFAC-273FD47E5E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BBAFCB-4475-45C9-B104-E3F6DC079A8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D2CC11-7976-42B9-9B20-C42DAFE049C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60F2AF-FB6D-46C9-8726-381E5829E3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95D357-0CE3-4B1A-AD0A-615CE197BD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56CC21-35BD-4DA0-B659-7503E3B0ED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9D75E9-9EEB-40F0-A27B-CCD14C3FEF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6DDF82-B973-4B73-AFFF-63DCB4B645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65C05AE7-1829-419B-BB93-F72EC1D671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B86593-59AA-4038-95CD-DD0FE05E4F2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F68BE67-0310-41C0-9445-52EF572C5C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46D9EC-33D0-4420-9EC1-007D066DDE5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88BF17-B10E-4C44-8868-2C4D8E741CC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317434D-E30D-4FBB-9313-1908E1A0191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494C29-7FFF-43A8-9E9A-519AA83E119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93A9B1C-9290-45F0-88AD-7DCF9C53211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FCB7E6-224F-4523-A8C9-C92341588D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4789D8-C043-4414-BD17-080906A2F1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572925-4830-4EC9-97DD-E0A319DCF8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30AB76-112A-4863-BE7C-B57A3AFBC3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7455985-B95D-4105-97FC-C9327E79571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525BF38-21AD-452B-A8F3-4EE007CE9C7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61C2EEF-F9E5-47F9-B8DD-560AF4E7F5B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45D276B-4112-44ED-96B2-53A5761BF5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9535D6-832B-473C-8A0F-08CA0D09669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C9C4BD-299A-474A-B6CE-5731A20BB2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C09A161-F5C9-4794-81CA-F8E24DD363D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8E82FE3-3013-44A2-9C48-89BA71C660F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CB8A08-EBD8-42D9-95DA-42D89FF2CE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357253E-FE75-48DE-8B39-6FD047DE50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DA7A23-4F58-4AFF-904B-23A4EDBD11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4CA41B2-3A75-4E55-B8BB-FCBB1259E96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147F130-9EE1-41E2-A048-476C75BD811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3ACEFBB-0658-41F8-9BCA-87C771F480D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B0C5CA50-2D0A-4410-9F0F-21FE7FAE990A}"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7AA172D2-E368-47A7-BC88-0E4DC2E8021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7A2E19EC-F05D-4923-832E-B8790E7415A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4A9F1CFE-32E2-4965-BD25-DE874F25638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4E9536AF-8D7A-4FC9-843C-37F2A01BBD5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8E83CD43-76A4-44E1-8E09-778FD298ADD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3BA0A5BA-2AA8-41EA-A525-A8A05B8CB61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8710DEB1-CEAD-46A6-A146-C7E11E19A4B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51D86860-DA94-4649-923C-20FC2331687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A75A7033-F830-48E7-B6B9-32DAB919BEF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5C33F100-5793-41CE-BD53-7B1E3D1FCA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4594EE68-E7BC-48C5-9A2B-3CC3159AF6A4}"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6F212342-DE7B-4763-96B5-73E96AE8C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6010C1-804F-427E-8313-DE154493D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02704-A29C-4828-9BD0-B4D63C672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58E8C-B365-4603-89DB-9EB65168C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B98F11-FB2C-4671-B165-45428DCF8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27C49-B800-42BF-85D0-3E5C008AD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C5DFD8B5-1E40-4133-8214-A24F6ED60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7B071-427E-41B4-9381-40904E2D6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51848-7818-4DCE-AC70-66F20B6EB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A10B7-BFC6-431B-B5AA-889373E65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0A268-19A7-4C6A-993D-4F35E14CB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E2E0F-86B2-4A43-8681-AA903FC57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925041-695E-4208-8A85-52F0A36AD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872D11-035C-4AD4-8979-EE3D9E32E3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0CAB84-B7A4-4FEE-BCF9-832D299E8E0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7977B8-1D99-46ED-BA0D-6FE5318A71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F35A35-388A-4215-A1CA-8231DE609D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1273FADD-6E5D-4871-A368-F56B5DF23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476E12-E6E0-49A3-8419-27C992F45C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E9BF0E-9DC1-4AE6-885F-64C3074DE9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2C78ED8-125F-47A2-AE85-5AEABA1218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E4F06F-9067-4AD2-AE86-E541ACB09E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67E48E-6913-43CE-BE77-DD540AD568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60F604-B089-48E4-839E-CAFA7776C1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A49FF3-B8E2-4EE6-86A8-109805D50F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BA2D09B-EE63-4561-80A7-6CC182152C7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0B7B59-F060-4875-9A2F-E447A2F24D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462B18-2F0D-49AC-96C8-C2305A85F1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F63189A0-DBD6-4A2C-9C57-990132DF2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10A373-431F-4D35-A6BC-638271E376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BE7C99-9E22-4242-8B24-545962EC06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5236C3-0A3C-494F-9BFD-CC110C4364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B7F329-3BE2-4C68-B0B6-005124D24A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6FF583-3EB7-49B1-839C-38091E0E9A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4F3EFC-C3D4-4D9D-8771-D3888807DE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6B471E-D0D4-4AD4-A9CA-2E8326FF39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EB3FC1-6C7F-437F-859E-7D33E9AE4C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310584-D523-4F92-AC4A-00D06685F0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E315C2-C1B1-4A14-8B52-A3EE5D69D6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63C2A9A8-F10C-4460-8000-1900F52D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67F70A-5005-4D7B-8D02-036063E7B7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CF91BF1-3DCB-49FB-8B4A-B1D4EA721F5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2E96EE-DCB6-4434-85D0-515D7BDBBF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E35AEBA-CA45-492A-8627-0E41DAF1F0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E71288-00EC-4A4F-A1A3-BB2002F46A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790274-B44C-4F61-A90D-A0951D0241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58E3DE-7A0F-457B-8FDD-C1A9D501D3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51B208-13B1-4FB1-8F8B-4C4F80B9F8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619B4B-935E-4449-B0E2-0F70DA172F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9B2F56-466D-4754-B5C4-E559129FC2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BA1899E-D31D-4B67-8437-5422E9DF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EAA8A7-6F50-4753-8C39-11C551E7FD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7FFC1EA-661C-4461-999C-A928019C03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6737A1D-BC4F-4A2B-9714-556BEB073EA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ACC12A4-9D8F-400F-88D4-0FBCFA423F8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5C5C21-494B-4632-851D-3890D49E85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3F2065-3132-4F3A-B61D-E0CF0FF0DB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FE3A796-3A59-4B50-80BF-ADC670BFB6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29B1D9-4538-4637-87DE-6A60B60D63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90EA15A-301B-48E7-974F-A6343EA3D5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1DCE5F-583D-4362-AE62-A377E011B99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D9E1E0B3-0C43-4171-A76F-C03CF6C9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F4A6BA-F9D3-40FD-9A2D-DE8B2E815C7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D8DC7B-D3BE-45C1-9953-F8B2BF1D75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BCAB1F-62A0-4733-98F0-F2539FF87E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9B7090C-6FDB-48E6-8114-EE82B82E687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38AF249-4862-43F6-B731-48714C4704E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D2482C5-C778-44EE-9998-2A46C9FE6FA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7218DF-1369-4522-974F-7D2535D350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4FD5E4-6DF6-4FFB-BF55-73756E2FD2F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4D8F2C-2DE5-4507-AAAF-02843541B9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62F47CF-AE78-4184-A731-F53C1AF4A54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C5EAF000-739C-4F47-A100-466A29B0E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BD5904-EB69-468A-B650-B2955F5920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C3D6E5-9D88-4C2E-8FE5-7A5593F630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849E81-7D0B-4ECF-BDDD-12EA1A2F21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DD8A54-CECF-47D5-B268-58BAE97823A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93D879F-01F6-413A-AFB9-5C8A15F23D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0D45181-BCA4-48FE-A12F-2F16D047C2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CEFFA6-101B-4AB7-952D-2DBFAAFE97D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A6745A2-3522-433F-842B-0FCB26E454E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0B6135-7116-435A-B6CE-077B35935F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753A29-0A30-4EA9-B7E9-EEB854CCF3A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3468-6C35-46F0-94A0-2623C5C1A14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36BF-BB8E-4A78-A54D-6D61F04C12F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9D68-93EA-4C2A-9177-F81DB106033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4EB2-EDA6-4135-87E7-E9E9B3F0FA7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5098-42E8-43ED-9685-A55810C8CEC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0C4C-50E6-4837-A1E3-4B517447DF6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D157-4C71-4508-AA0D-9B2E33F2A53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D2C8-AAA4-44F8-B5D5-7F0436D1979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CBCE-41C0-4FA8-8F26-288565ACC0B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49A1-4097-4F62-8568-4150A310086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654C-56AF-446C-A617-0A7B82E6D07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32AB-4CD4-4916-BD0E-296591E81DF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05" name="Group 162"/>
          <p:cNvGrpSpPr/>
          <p:nvPr/>
        </p:nvGrpSpPr>
        <p:grpSpPr>
          <a:xfrm>
            <a:off x="-4680" y="0"/>
            <a:ext cx="9148680" cy="6858000"/>
            <a:chOff x="-4680" y="0"/>
            <a:chExt cx="9148680" cy="6858000"/>
          </a:xfrm>
        </p:grpSpPr>
        <p:pic>
          <p:nvPicPr>
            <p:cNvPr id="606" name="Picture 23" descr="dd"/>
            <p:cNvPicPr/>
            <p:nvPr/>
          </p:nvPicPr>
          <p:blipFill>
            <a:blip r:embed="rId1"/>
            <a:stretch/>
          </p:blipFill>
          <p:spPr>
            <a:xfrm>
              <a:off x="-4680" y="0"/>
              <a:ext cx="1825560" cy="6858000"/>
            </a:xfrm>
            <a:prstGeom prst="rect">
              <a:avLst/>
            </a:prstGeom>
            <a:ln w="0">
              <a:noFill/>
            </a:ln>
          </p:spPr>
        </p:pic>
        <p:sp>
          <p:nvSpPr>
            <p:cNvPr id="60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8" name="Picture 161" descr="logo small"/>
            <p:cNvPicPr/>
            <p:nvPr/>
          </p:nvPicPr>
          <p:blipFill>
            <a:blip r:embed="rId2"/>
            <a:stretch/>
          </p:blipFill>
          <p:spPr>
            <a:xfrm>
              <a:off x="6489720" y="517680"/>
              <a:ext cx="2146320" cy="544320"/>
            </a:xfrm>
            <a:prstGeom prst="rect">
              <a:avLst/>
            </a:prstGeom>
            <a:ln w="0">
              <a:noFill/>
            </a:ln>
          </p:spPr>
        </p:pic>
      </p:grpSp>
      <p:grpSp>
        <p:nvGrpSpPr>
          <p:cNvPr id="609" name="Group 155"/>
          <p:cNvGrpSpPr/>
          <p:nvPr/>
        </p:nvGrpSpPr>
        <p:grpSpPr>
          <a:xfrm>
            <a:off x="257040" y="1201680"/>
            <a:ext cx="2482920" cy="2444760"/>
            <a:chOff x="257040" y="1201680"/>
            <a:chExt cx="2482920" cy="2444760"/>
          </a:xfrm>
        </p:grpSpPr>
        <p:sp>
          <p:nvSpPr>
            <p:cNvPr id="610"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Oval 102"/>
          <p:cNvGrpSpPr/>
          <p:nvPr/>
        </p:nvGrpSpPr>
        <p:grpSpPr>
          <a:xfrm>
            <a:off x="438120" y="1359000"/>
            <a:ext cx="2158920" cy="2176200"/>
            <a:chOff x="438120" y="1359000"/>
            <a:chExt cx="2158920" cy="2176200"/>
          </a:xfrm>
        </p:grpSpPr>
        <p:pic>
          <p:nvPicPr>
            <p:cNvPr id="616" name="Oval 102" descr=""/>
            <p:cNvPicPr/>
            <p:nvPr/>
          </p:nvPicPr>
          <p:blipFill>
            <a:blip r:embed="rId3"/>
            <a:stretch/>
          </p:blipFill>
          <p:spPr>
            <a:xfrm>
              <a:off x="438120" y="1359000"/>
              <a:ext cx="2158920" cy="2176200"/>
            </a:xfrm>
            <a:prstGeom prst="rect">
              <a:avLst/>
            </a:prstGeom>
            <a:ln w="0">
              <a:noFill/>
            </a:ln>
          </p:spPr>
        </p:pic>
        <p:sp>
          <p:nvSpPr>
            <p:cNvPr id="617"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8" name="Group 156"/>
          <p:cNvGrpSpPr/>
          <p:nvPr/>
        </p:nvGrpSpPr>
        <p:grpSpPr>
          <a:xfrm>
            <a:off x="171360" y="1201680"/>
            <a:ext cx="2643120" cy="2494080"/>
            <a:chOff x="171360" y="1201680"/>
            <a:chExt cx="2643120" cy="2494080"/>
          </a:xfrm>
        </p:grpSpPr>
        <p:sp>
          <p:nvSpPr>
            <p:cNvPr id="6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2" name="Group 146"/>
          <p:cNvGrpSpPr/>
          <p:nvPr/>
        </p:nvGrpSpPr>
        <p:grpSpPr>
          <a:xfrm>
            <a:off x="912960" y="620640"/>
            <a:ext cx="1284120" cy="1260720"/>
            <a:chOff x="912960" y="620640"/>
            <a:chExt cx="1284120" cy="1260720"/>
          </a:xfrm>
        </p:grpSpPr>
        <p:sp>
          <p:nvSpPr>
            <p:cNvPr id="623"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4"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5"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6"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9"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0"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1"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2" name="Group 145"/>
          <p:cNvGrpSpPr/>
          <p:nvPr/>
        </p:nvGrpSpPr>
        <p:grpSpPr>
          <a:xfrm>
            <a:off x="863640" y="620640"/>
            <a:ext cx="1369800" cy="1284480"/>
            <a:chOff x="863640" y="620640"/>
            <a:chExt cx="1369800" cy="1284480"/>
          </a:xfrm>
        </p:grpSpPr>
        <p:sp>
          <p:nvSpPr>
            <p:cNvPr id="63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36" name="Group 157"/>
          <p:cNvGrpSpPr/>
          <p:nvPr/>
        </p:nvGrpSpPr>
        <p:grpSpPr>
          <a:xfrm>
            <a:off x="331920" y="3090960"/>
            <a:ext cx="2074680" cy="2038320"/>
            <a:chOff x="331920" y="3090960"/>
            <a:chExt cx="2074680" cy="2038320"/>
          </a:xfrm>
        </p:grpSpPr>
        <p:sp>
          <p:nvSpPr>
            <p:cNvPr id="63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43"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44" name="Group 158"/>
          <p:cNvGrpSpPr/>
          <p:nvPr/>
        </p:nvGrpSpPr>
        <p:grpSpPr>
          <a:xfrm>
            <a:off x="257040" y="3090960"/>
            <a:ext cx="2211480" cy="2087640"/>
            <a:chOff x="257040" y="3090960"/>
            <a:chExt cx="2211480" cy="2087640"/>
          </a:xfrm>
        </p:grpSpPr>
        <p:sp>
          <p:nvSpPr>
            <p:cNvPr id="64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Group 159"/>
          <p:cNvGrpSpPr/>
          <p:nvPr/>
        </p:nvGrpSpPr>
        <p:grpSpPr>
          <a:xfrm>
            <a:off x="900000" y="4684680"/>
            <a:ext cx="1717920" cy="1692360"/>
            <a:chOff x="900000" y="4684680"/>
            <a:chExt cx="1717920" cy="1692360"/>
          </a:xfrm>
        </p:grpSpPr>
        <p:sp>
          <p:nvSpPr>
            <p:cNvPr id="64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5" name="Oval 138"/>
          <p:cNvGrpSpPr/>
          <p:nvPr/>
        </p:nvGrpSpPr>
        <p:grpSpPr>
          <a:xfrm>
            <a:off x="1011240" y="4791240"/>
            <a:ext cx="1512720" cy="1517400"/>
            <a:chOff x="1011240" y="4791240"/>
            <a:chExt cx="1512720" cy="1517400"/>
          </a:xfrm>
        </p:grpSpPr>
        <p:pic>
          <p:nvPicPr>
            <p:cNvPr id="656" name="Oval 138" descr=""/>
            <p:cNvPicPr/>
            <p:nvPr/>
          </p:nvPicPr>
          <p:blipFill>
            <a:blip r:embed="rId6"/>
            <a:stretch/>
          </p:blipFill>
          <p:spPr>
            <a:xfrm>
              <a:off x="1011240" y="4791240"/>
              <a:ext cx="1512720" cy="1517400"/>
            </a:xfrm>
            <a:prstGeom prst="rect">
              <a:avLst/>
            </a:prstGeom>
            <a:ln w="0">
              <a:noFill/>
            </a:ln>
          </p:spPr>
        </p:pic>
        <p:sp>
          <p:nvSpPr>
            <p:cNvPr id="657"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8" name="Group 160"/>
          <p:cNvGrpSpPr/>
          <p:nvPr/>
        </p:nvGrpSpPr>
        <p:grpSpPr>
          <a:xfrm>
            <a:off x="838080" y="4684680"/>
            <a:ext cx="1828800" cy="1728720"/>
            <a:chOff x="838080" y="4684680"/>
            <a:chExt cx="1828800" cy="1728720"/>
          </a:xfrm>
        </p:grpSpPr>
        <p:sp>
          <p:nvSpPr>
            <p:cNvPr id="659"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62" name="Rectangle 2"/>
          <p:cNvSpPr/>
          <p:nvPr/>
        </p:nvSpPr>
        <p:spPr>
          <a:xfrm>
            <a:off x="2624040" y="2936880"/>
            <a:ext cx="6100920" cy="2130480"/>
          </a:xfrm>
          <a:prstGeom prst="rect">
            <a:avLst/>
          </a:prstGeom>
          <a:noFill/>
          <a:ln w="0">
            <a:noFill/>
          </a:ln>
        </p:spPr>
        <p:style>
          <a:lnRef idx="0"/>
          <a:fillRef idx="0"/>
          <a:effectRef idx="0"/>
          <a:fontRef idx="minor"/>
        </p:style>
        <p:txBody>
          <a:bodyPr lIns="90000" rIns="90000" tIns="46800" bIns="46800" anchor="b">
            <a:normAutofit fontScale="19000"/>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Geotechnical assessment of Carmel-</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uto at North West Transmission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resented by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huti Ratau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23 May 2022</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Contractual Creteria</a:t>
            </a:r>
            <a:endParaRPr b="0" lang="en-US" sz="2400" spc="-1" strike="noStrike">
              <a:solidFill>
                <a:srgbClr val="ffffff"/>
              </a:solidFill>
              <a:latin typeface="Arial"/>
            </a:endParaRPr>
          </a:p>
        </p:txBody>
      </p:sp>
      <p:sp>
        <p:nvSpPr>
          <p:cNvPr id="664"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Objective Criteria: </a:t>
            </a:r>
            <a:endParaRPr b="0" lang="en-US" sz="2000" spc="-1" strike="noStrike">
              <a:solidFill>
                <a:srgbClr val="003896"/>
              </a:solidFill>
              <a:latin typeface="Arial"/>
            </a:endParaRPr>
          </a:p>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during Contractual Criteria, just an indication that the supplier has met the minimum requirements listed under contractual Criteria. The suppliers evaluated ONLY those that met all the functional criteria should there be any outstanding information, the buyer will be informed to request the outstanding information from the supplier and on resubmission must be within 5 days, the Quality rep will indicate if  the information is acceptable  or not.</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6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F702-E77C-4AA6-9025-43EC9BA99CF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6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EBFA-C0C4-4F33-BBFD-8AD05C55AB8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9"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 </a:t>
            </a:r>
            <a:endParaRPr b="0" lang="en-US" sz="2400" spc="-1" strike="noStrike">
              <a:solidFill>
                <a:srgbClr val="ffffff"/>
              </a:solidFill>
              <a:latin typeface="Arial"/>
            </a:endParaRPr>
          </a:p>
        </p:txBody>
      </p:sp>
      <p:sp>
        <p:nvSpPr>
          <p:cNvPr id="670" name="PlaceHolder 2"/>
          <p:cNvSpPr>
            <a:spLocks noGrp="1"/>
          </p:cNvSpPr>
          <p:nvPr>
            <p:ph/>
          </p:nvPr>
        </p:nvSpPr>
        <p:spPr>
          <a:xfrm>
            <a:off x="324000" y="1196640"/>
            <a:ext cx="8378640" cy="5256360"/>
          </a:xfrm>
          <a:prstGeom prst="rect">
            <a:avLst/>
          </a:prstGeom>
          <a:noFill/>
          <a:ln w="0">
            <a:noFill/>
          </a:ln>
        </p:spPr>
        <p:txBody>
          <a:bodyPr anchor="t">
            <a:normAutofit/>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M 58 Specification</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A consists of two options: </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ption 1</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O certific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relevant to the scope of work</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an accredited certification bod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Not expired.  </a:t>
            </a:r>
            <a:endParaRPr b="0" lang="en-US" sz="20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018B-D31A-4D38-A723-D6866E870B46}"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 3282 – Quality requirements (30)</a:t>
            </a:r>
            <a:endParaRPr b="0" lang="en-US" sz="2400" spc="-1" strike="noStrike">
              <a:solidFill>
                <a:srgbClr val="ffffff"/>
              </a:solidFill>
              <a:latin typeface="Arial"/>
            </a:endParaRPr>
          </a:p>
        </p:txBody>
      </p:sp>
      <p:sp>
        <p:nvSpPr>
          <p:cNvPr id="673" name="PlaceHolder 2"/>
          <p:cNvSpPr>
            <a:spLocks noGrp="1"/>
          </p:cNvSpPr>
          <p:nvPr>
            <p:ph/>
          </p:nvPr>
        </p:nvSpPr>
        <p:spPr>
          <a:xfrm>
            <a:off x="324000" y="1052280"/>
            <a:ext cx="8378640" cy="5638680"/>
          </a:xfrm>
          <a:prstGeom prst="rect">
            <a:avLst/>
          </a:prstGeom>
          <a:noFill/>
          <a:ln w="0">
            <a:noFill/>
          </a:ln>
        </p:spPr>
        <p:txBody>
          <a:bodyPr anchor="t">
            <a:normAutofit/>
          </a:bodyPr>
          <a:p>
            <a:pPr lvl="1" marL="4446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Option 2</a:t>
            </a:r>
            <a:r>
              <a:rPr b="1" lang="en-US" sz="1800" spc="-1" strike="noStrike">
                <a:solidFill>
                  <a:srgbClr val="003896"/>
                </a:solidFill>
                <a:latin typeface="Arial"/>
              </a:rPr>
              <a:t> </a:t>
            </a:r>
            <a:endParaRPr b="0" lang="en-US" sz="1800" spc="-1" strike="noStrike">
              <a:solidFill>
                <a:srgbClr val="003896"/>
              </a:solidFill>
              <a:latin typeface="Arial"/>
            </a:endParaRPr>
          </a:p>
          <a:p>
            <a:pPr lvl="1" marL="444600" indent="0">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Objective evidence of a Quality Management system (compliant to ISO 9001 2015) it will include the following</a:t>
            </a:r>
            <a:r>
              <a:rPr b="0" lang="en-US" sz="1800" spc="-1" strike="noStrike">
                <a:solidFill>
                  <a:srgbClr val="003896"/>
                </a:solidFill>
                <a:latin typeface="Arial"/>
              </a:rPr>
              <a:t>:</a:t>
            </a:r>
            <a:endParaRPr b="0" lang="en-US" sz="18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QMS Manual or a document that defines and describes the QMS and its scope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Quality Policy  and Objectives Approved by top management.</a:t>
            </a:r>
            <a:r>
              <a:rPr b="0" lang="en-US" sz="1600" spc="-1" strike="noStrike">
                <a:solidFill>
                  <a:srgbClr val="003896"/>
                </a:solidFill>
                <a:latin typeface="Arial"/>
              </a:rPr>
              <a:t>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ntrol of documented information</a:t>
            </a:r>
            <a:r>
              <a:rPr b="0" lang="en-US" sz="1600" spc="-1" strike="noStrike">
                <a:solidFill>
                  <a:srgbClr val="003896"/>
                </a:solidFill>
                <a:latin typeface="Arial"/>
              </a:rPr>
              <a:t>	</a:t>
            </a:r>
            <a:r>
              <a:rPr b="0" lang="en-US" sz="1600" spc="-1" strike="noStrike">
                <a:solidFill>
                  <a:srgbClr val="003896"/>
                </a:solidFill>
                <a:latin typeface="Arial"/>
              </a:rPr>
              <a:t>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Control of nonconforming output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Nonconformity and Corrective action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 </a:t>
            </a:r>
            <a:r>
              <a:rPr b="0" lang="en-US" sz="1600" spc="-1" strike="noStrike">
                <a:solidFill>
                  <a:srgbClr val="003896"/>
                </a:solidFill>
                <a:latin typeface="Arial"/>
              </a:rPr>
              <a:t>Documented information for Internal audit </a:t>
            </a:r>
            <a:r>
              <a:rPr b="0" lang="en-US" sz="1600" spc="-1" strike="noStrike">
                <a:solidFill>
                  <a:srgbClr val="003896"/>
                </a:solidFill>
                <a:latin typeface="Arial"/>
              </a:rPr>
              <a:t>	</a:t>
            </a:r>
            <a:r>
              <a:rPr b="0" lang="en-US" sz="1600" spc="-1" strike="noStrike">
                <a:solidFill>
                  <a:srgbClr val="003896"/>
                </a:solidFill>
                <a:latin typeface="Arial"/>
              </a:rPr>
              <a:t>	</a:t>
            </a:r>
            <a:r>
              <a:rPr b="0" lang="en-US" sz="1600" spc="-1" strike="noStrike">
                <a:solidFill>
                  <a:srgbClr val="003896"/>
                </a:solidFill>
                <a:latin typeface="Arial"/>
              </a:rPr>
              <a:t>	</a:t>
            </a:r>
            <a:r>
              <a:rPr b="0" lang="en-US" sz="1600" spc="-1" strike="noStrike">
                <a:solidFill>
                  <a:srgbClr val="003896"/>
                </a:solidFill>
                <a:latin typeface="Arial"/>
              </a:rPr>
              <a:t>	</a:t>
            </a:r>
            <a:endParaRPr b="0" lang="en-US" sz="1600" spc="-1" strike="noStrike">
              <a:solidFill>
                <a:srgbClr val="003896"/>
              </a:solidFill>
              <a:latin typeface="Arial"/>
            </a:endParaRPr>
          </a:p>
          <a:p>
            <a:pPr lvl="1" marL="4446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7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FE5A-E7BF-4CBC-801E-5DB6CEA4266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77" name="PlaceHolder 2"/>
          <p:cNvSpPr>
            <a:spLocks noGrp="1"/>
          </p:cNvSpPr>
          <p:nvPr>
            <p:ph/>
          </p:nvPr>
        </p:nvSpPr>
        <p:spPr>
          <a:xfrm>
            <a:off x="669960" y="1436400"/>
            <a:ext cx="8378640" cy="4079880"/>
          </a:xfrm>
          <a:prstGeom prst="rect">
            <a:avLst/>
          </a:prstGeom>
          <a:noFill/>
          <a:ln w="0">
            <a:noFill/>
          </a:ln>
        </p:spPr>
        <p:txBody>
          <a:bodyPr anchor="t">
            <a:normAutofit/>
          </a:bodyPr>
          <a:p>
            <a:pPr lvl="1" marL="444600" indent="0" algn="just">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B Evidence of QMS in operation (Tender Quality Requirements -Ref QM-58 /240-105658000):</a:t>
            </a:r>
            <a:endParaRPr b="0" lang="en-US" sz="20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defined roles, responsibilities and authoritie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Control of Externally Provided Processes, Products and Service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Records of Management Review meetings (minutes, attendance registers etc)</a:t>
            </a:r>
            <a:endParaRPr b="0" lang="en-US" sz="16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7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5E52-C82A-479F-92E3-5CFC06F1A0B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81" name="PlaceHolder 2"/>
          <p:cNvSpPr>
            <a:spLocks noGrp="1"/>
          </p:cNvSpPr>
          <p:nvPr>
            <p:ph/>
          </p:nvPr>
        </p:nvSpPr>
        <p:spPr>
          <a:xfrm>
            <a:off x="669960" y="1436400"/>
            <a:ext cx="8378640" cy="4079880"/>
          </a:xfrm>
          <a:prstGeom prst="rect">
            <a:avLst/>
          </a:prstGeom>
          <a:noFill/>
          <a:ln w="0">
            <a:noFill/>
          </a:ln>
        </p:spPr>
        <p:txBody>
          <a:bodyPr anchor="t">
            <a:normAutofit/>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C </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Contract Quality Plan Requirements</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Template of Inspection and Test Plan (ITP)</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E</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Form A is completed and signed.</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83"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roscoviour Ratsethana</cp:lastModifiedBy>
  <dcterms:modified xsi:type="dcterms:W3CDTF">2022-05-23T10:05:05Z</dcterms:modified>
  <cp:revision>3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